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DAF39-1232-4AA3-873C-9EFCB0C5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D878E-982E-431F-BB73-33415F5D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C683B-F4E2-4A62-B337-53FCFD65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70B44-09BE-4E0B-BC82-CE3F7EBD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8617-CB36-49E5-894B-B30E34A0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95EA-EBF1-49AF-B0C5-797C08BD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2C23-1163-4AB9-B0E4-1859BBFC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80F1-AC2B-42EA-9576-33AAF6FA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FF6F-3A6D-42A0-A7B1-DD161290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8F23-2A70-4211-97FF-59560439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F2E8-B632-4412-96CD-B4095BAF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C132D-1FA6-485F-BE8F-AA03926F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9EEC-459C-4FBC-AE44-7FF7B46B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D135-8041-458B-B2AD-A210811D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2BA0-061E-49FD-8A3F-F1A0D97B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AB73-0D19-4263-BEBF-D89953B9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FE95-E9E2-4583-92B7-2C006F62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AC9C9-2975-4F0D-A129-A75FF059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832FB-B152-45AC-97FE-459552E4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FDE67-22B5-414C-A5C6-32547DF0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691A1-7B05-4F23-B123-08013915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CF1BD-563D-46E4-92DC-CB949A0F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A20CF-8097-4375-B979-3E4A3DA5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A7078-2E99-4D6F-93D7-F78EB839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C253-8620-4CF9-B924-50B672280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B43E-F079-41D5-9621-3BBF637538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Subordination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like Professor Garcia _____ she present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formation clearl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even 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beca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l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like Professor Garcia _____ she present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formation clearl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even 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beca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l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y nephews and nieces are fun to baby si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 they’re awfully nois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f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even 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y nephews and nieces are fun to baby si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 they’re awfully nois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f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even 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 you were napping, the dogs go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o the garbage can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hi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e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So th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 you were napping, the dogs go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o the garbage can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Whi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e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So th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 we moved to this neighborhood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ur car has been broken into thre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ime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Si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Befo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 we moved to this neighborhood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ur car has been broken into thre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ime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Si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Befo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want to go to Hollywood _______ I ca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ulfill my dream of being a movie sta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l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unl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so th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want to go to Hollywood _______ I ca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ulfill my dream of being a movie sta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l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unl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so th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is subordination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ke coordination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ubordinati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joins two closely related sentences. However, with subordination, you put a dependent word (such as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fter, although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becaus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in front of one of the sentences. These words are known a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ubordinating conjunctio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LATED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NTENCES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y got a higher-paying job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He was able to buy a c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JOINED  Becaus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Roy got a higher-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paying job, he was able to buy a c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 I see a good opportunity, I try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ake advantage of i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l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e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Unl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 I see a good opportunity, I try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ake advantage of i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l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Whe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Unl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 you apologize, Danielle probably will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give you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So th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f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 you apologize, Danielle probably will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give you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So th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If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mon Subordinating Conjunction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f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f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nl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thou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ven thou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nt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h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 i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c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o t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h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 Nat is often annoying, he can b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y kin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ft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Beca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l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 Nat is often annoying, he can b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y kin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ft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Beca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Al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 you go to the party, make sur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u let them know you’re com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Befo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Even 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Whe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 you go to the party, make sur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u let them know you’re com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Befo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Even 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Whe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will have classes tomorrow ______ i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nows in the morn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s if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so that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unl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will have classes tomorrow ______ i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nows in the morn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s if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so that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unl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6:19:37Z</dcterms:created>
  <dc:creator>BSM</dc:creator>
  <dc:description/>
  <dc:language>en-US</dc:language>
  <cp:lastModifiedBy>BSM</cp:lastModifiedBy>
  <dcterms:modified xsi:type="dcterms:W3CDTF">2008-02-14T16:58:30Z</dcterms:modified>
  <cp:revision>155</cp:revision>
  <dc:subject/>
  <dc:title>Sentence Fragments</dc:title>
</cp:coreProperties>
</file>